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05F-CCF5-49D0-923E-0CF4F8A9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A7B-04BB-4CB5-80A5-1A4AE96B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BFC-9FD7-466D-B113-DE9F17CC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AF9-89F7-4F7E-A1C7-D7CB3E51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4BE-BC1D-4233-BDF2-F14F4E15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188-6392-4D3B-97D4-E9FB39DE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DEA-B92A-4815-B181-90105A27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CA8-BAFE-4CB6-8578-FAA3F37E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A19-0114-41EE-B3CB-0CF505ED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21E-2CF7-497F-B083-688B823B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868-8F95-41C1-80D3-6D794BF5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4AD-56A9-4EF1-9298-F4446F57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3347-9B21-49E7-A2C6-3843CEF294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Krizové centrum pro děti a rodinu</a:t>
            </a:r>
            <a:br>
              <a:rPr sz="3200"/>
            </a:b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v Jihočeském kraji, z.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2" descr=""/>
          <p:cNvPicPr/>
          <p:nvPr/>
        </p:nvPicPr>
        <p:blipFill>
          <a:blip r:embed="rId2"/>
          <a:stretch/>
        </p:blipFill>
        <p:spPr>
          <a:xfrm>
            <a:off x="130320" y="1219320"/>
            <a:ext cx="88833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ručná charakteristika klientů za rok 201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684360" y="15573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ontak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jednotlivých návštěv osob bez ohledu na délku konzultace): 1067/7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ndividuální, párová nebo rodinná konzultace – 831/6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půrně-terapeutické skupiny – 23/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4"/>
          <p:cNvSpPr/>
          <p:nvPr/>
        </p:nvSpPr>
        <p:spPr>
          <a:xfrm>
            <a:off x="684360" y="28954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lien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osob, které využili našich služeb): 462/3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y – 208/14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ži – 122/87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ívky – 71/6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hlapci – 61/6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případ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rodin): 244/2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last podpory rodiny – 142/15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rizová intervence – 66/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diny spadající do obou oblastí – 36/32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racované zprávy (SPOD, opatrovnický soud, PČR):  131/1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ní kontak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3860280"/>
            <a:ext cx="374328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oporuč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elefonát x “na blind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jednat x přepos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Uvítá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vní konzulta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aplánování spoluprá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4" descr="čekárna-stará.jpg"/>
          <p:cNvPicPr/>
          <p:nvPr/>
        </p:nvPicPr>
        <p:blipFill>
          <a:blip r:embed="rId2"/>
          <a:stretch/>
        </p:blipFill>
        <p:spPr>
          <a:xfrm>
            <a:off x="4751280" y="356400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82" name="Obrázek 6" descr="webovky-vila.jpg"/>
          <p:cNvPicPr/>
          <p:nvPr/>
        </p:nvPicPr>
        <p:blipFill>
          <a:blip r:embed="rId3"/>
          <a:stretch/>
        </p:blipFill>
        <p:spPr>
          <a:xfrm>
            <a:off x="6264360" y="126828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7"/>
          <p:cNvSpPr/>
          <p:nvPr/>
        </p:nvSpPr>
        <p:spPr>
          <a:xfrm>
            <a:off x="4067280" y="19162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iráskovo nábřeží 10, České Budějo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Pája\Downloads\mapy.png"/>
          <p:cNvPicPr/>
          <p:nvPr/>
        </p:nvPicPr>
        <p:blipFill>
          <a:blip r:embed="rId4"/>
          <a:srcRect l="10628" t="0" r="43700" b="15881"/>
          <a:stretch/>
        </p:blipFill>
        <p:spPr>
          <a:xfrm>
            <a:off x="0" y="0"/>
            <a:ext cx="4067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estr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62864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oblemat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din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chov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voj/poru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AN, OT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sp>
        <p:nvSpPr>
          <p:cNvPr id="88" name="Zástupný symbol pro obsah 2"/>
          <p:cNvSpPr/>
          <p:nvPr/>
        </p:nvSpPr>
        <p:spPr>
          <a:xfrm>
            <a:off x="4273560" y="1639800"/>
            <a:ext cx="260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ruh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lefon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Individ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ár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Rodič-d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Skup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obsah 2"/>
          <p:cNvSpPr/>
          <p:nvPr/>
        </p:nvSpPr>
        <p:spPr>
          <a:xfrm>
            <a:off x="2328840" y="1628640"/>
            <a:ext cx="26035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yp inter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iagnos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orad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ra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obsah 2"/>
          <p:cNvSpPr/>
          <p:nvPr/>
        </p:nvSpPr>
        <p:spPr>
          <a:xfrm>
            <a:off x="6300720" y="1628640"/>
            <a:ext cx="2602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ástro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linick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ozoro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Rozhov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rojek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Kresb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Nedokon-čené vě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ískoviště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Dix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Testov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Hra na poš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Škála úzkos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a dalš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ovéPole 7"/>
          <p:cNvSpPr/>
          <p:nvPr/>
        </p:nvSpPr>
        <p:spPr>
          <a:xfrm>
            <a:off x="539640" y="6093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+ zařazení do jednotlivých pro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půrně-terapeutické skup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5" descr="M-1024x1024.png"/>
          <p:cNvPicPr/>
          <p:nvPr/>
        </p:nvPicPr>
        <p:blipFill>
          <a:blip r:embed="rId2"/>
          <a:stretch/>
        </p:blipFill>
        <p:spPr>
          <a:xfrm>
            <a:off x="4932360" y="155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Obrázek 6" descr="kindergarten-504672_1280-1024x682.jpg"/>
          <p:cNvPicPr/>
          <p:nvPr/>
        </p:nvPicPr>
        <p:blipFill>
          <a:blip r:embed="rId3"/>
          <a:stretch/>
        </p:blipFill>
        <p:spPr>
          <a:xfrm>
            <a:off x="4716360" y="4149720"/>
            <a:ext cx="335124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Obrázek 7" descr="kc_cinnosti_1-1024x683.jpg"/>
          <p:cNvPicPr/>
          <p:nvPr/>
        </p:nvPicPr>
        <p:blipFill>
          <a:blip r:embed="rId4"/>
          <a:stretch/>
        </p:blipFill>
        <p:spPr>
          <a:xfrm>
            <a:off x="971640" y="1557360"/>
            <a:ext cx="3330360" cy="2220840"/>
          </a:xfrm>
          <a:prstGeom prst="rect">
            <a:avLst/>
          </a:prstGeom>
          <a:ln w="0">
            <a:noFill/>
          </a:ln>
        </p:spPr>
      </p:pic>
      <p:pic>
        <p:nvPicPr>
          <p:cNvPr id="97" name="Obrázek 8" descr="children-310554_1280-e1431934921548.png"/>
          <p:cNvPicPr/>
          <p:nvPr/>
        </p:nvPicPr>
        <p:blipFill>
          <a:blip r:embed="rId5"/>
          <a:stretch/>
        </p:blipFill>
        <p:spPr>
          <a:xfrm>
            <a:off x="1476360" y="4437000"/>
            <a:ext cx="2381400" cy="1771560"/>
          </a:xfrm>
          <a:prstGeom prst="rect">
            <a:avLst/>
          </a:prstGeom>
          <a:ln w="0">
            <a:noFill/>
          </a:ln>
        </p:spPr>
      </p:pic>
      <p:pic>
        <p:nvPicPr>
          <p:cNvPr id="98" name="Obrázek 9" descr="F-679x1024.png"/>
          <p:cNvPicPr/>
          <p:nvPr/>
        </p:nvPicPr>
        <p:blipFill>
          <a:blip r:embed="rId6"/>
          <a:stretch/>
        </p:blipFill>
        <p:spPr>
          <a:xfrm>
            <a:off x="1042920" y="2565360"/>
            <a:ext cx="765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peciální pro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4" descr="footprints-48031_640-e1442918030894.png"/>
          <p:cNvPicPr/>
          <p:nvPr/>
        </p:nvPicPr>
        <p:blipFill>
          <a:blip r:embed="rId2"/>
          <a:stretch/>
        </p:blipFill>
        <p:spPr>
          <a:xfrm>
            <a:off x="250920" y="404640"/>
            <a:ext cx="216036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Obrázek 5" descr="divorce-156444_1280-1024x731.png"/>
          <p:cNvPicPr/>
          <p:nvPr/>
        </p:nvPicPr>
        <p:blipFill>
          <a:blip r:embed="rId3"/>
          <a:stretch/>
        </p:blipFill>
        <p:spPr>
          <a:xfrm>
            <a:off x="3633840" y="2924280"/>
            <a:ext cx="55101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Diagnosticko-terapeutické pískovišt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5" name="Obrázek 4" descr="písek-2-1024x768.jpg"/>
          <p:cNvPicPr/>
          <p:nvPr/>
        </p:nvPicPr>
        <p:blipFill>
          <a:blip r:embed="rId2"/>
          <a:stretch/>
        </p:blipFill>
        <p:spPr>
          <a:xfrm>
            <a:off x="1187280" y="1413000"/>
            <a:ext cx="66564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tatní čin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4005360"/>
            <a:ext cx="4895640" cy="21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lupráce s odborní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náš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ek 4" descr="kc_cinnosti_2-683x1024.jpg"/>
          <p:cNvPicPr/>
          <p:nvPr/>
        </p:nvPicPr>
        <p:blipFill>
          <a:blip r:embed="rId2"/>
          <a:stretch/>
        </p:blipFill>
        <p:spPr>
          <a:xfrm>
            <a:off x="5700600" y="1695600"/>
            <a:ext cx="3443400" cy="516240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5" descr="3.png"/>
          <p:cNvPicPr/>
          <p:nvPr/>
        </p:nvPicPr>
        <p:blipFill>
          <a:blip r:embed="rId3"/>
          <a:stretch/>
        </p:blipFill>
        <p:spPr>
          <a:xfrm>
            <a:off x="179280" y="260280"/>
            <a:ext cx="2229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e to krizové cen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kytuj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efonická, terénní, ambulantn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vaznost na tel. KI (např. Linka důvě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ecializace na cílové skup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dané aktivity – skupiny, rozvod bez újmy, práce s agresorem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pro děti a rodinu vzniká jak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jekt spolupráce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ajského úřadu Jč. kraje a Zdravotně sociální fakulty Jihočeské univerzity. V tomto období ZSF JU centrum realizovala a zastřešoval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se od svého založ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imárně orientovalo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moc (detekce, diagnostika, péče, prevence) dětem trpící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yndromem  CA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ycházelo z dobré praxe DKC Praha). Dále pomáhalo dětem, které se ocitly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závažné, krizové situaci v rodině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ztráta či rozpad rodiny, vážné onemocnění nebo úmrtí  v rodině, sociálně patologické jevy v rodině, např. alkoholizmus) nebo lidem, kteří zažili traum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ětšina z ČB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ale také z kraje i odjinud,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íce žen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řední dospělost, dětí nejvíce ZŠ a SŠ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lužb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- KI, diagnostika, poradenství, terapie, Preventík, PS, stáže, přednášky, osvě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polupráce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s OSPOD, policie, soud, školy..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.1.2004 – Krizové centrum se stává samostatný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občanským sdružením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ěhování do prostor       v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 Nerudově uli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diagnosticko-terapeutická místnost s jednocestným zrcadlem,  prevence sekundární viktimizace u vyšetřování CA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5.3.2004 – uděl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věření k sociálně právní ochraně dět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 počátku mezi řešenými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blematikami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řevažují rodinné problémy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konflikty, rozvod), dále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ýchovné a školní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oblémy, psychické a behaviorál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ruch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dětí, zbylých téměř 10 %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- dle zákona 108/2006 Sb., o sociálních službách uskutečně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registrace služeb Krizové pomo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a Socializačně- aktivizačních služeb pro rodinu s dětm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7 – rekonstrukce prostor v Nerudově ulici č. 2685/53 a dočasné přestěhování do Staroměstské ulice č. 18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ersonální změ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Červen 2008- dokončení rekonstrukce- návrat do Nerudovy u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bnovení služby „Podporované setkávání dítěte s odcizeným rodičem“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zšíření služeb 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rizovou pomoc pro dospěl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k 2008 – personální změny – Vedoucí krizového centra- PhDr. Libuše Vlášková předala koncem roku funkci PhDr. Ivě Kundrátov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8 – únor 2009 – značné personální změny, výběr a tvorba nového pracovního týmu a jeho stabiliza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2009 – zrušení registrace služby: Socializačně-aktivizačních služeb pro rodinu s dětm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únor 2009 navýšení kapacity Krizového cent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ořízení diagnosticko-terapeutickéh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ískoviště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udělení statusu "Organizace uznaná MPSV na léta 2010-2012 pro činnost v oblasti prorodinných aktivit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ot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břez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že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těhování 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Jiráskovo nábřež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kupina pro adolescenty a skupina pro dět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dub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I také teré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 dubnu jsme na Krajském úřadě Jihočeského kraje rozšířili registraci sociální služby Krizová pomoc o terénní formu s působností pro celý Jihočeský kraj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dzim 2013 probíhala také intenzivní jednání s městem Kaplice o poskytování terénní krizové pomoci přímo v jejich městě. Díky výborné spolupráci, vstřícnému přístupu a finanční podpoře vedení města Kaplice a oddělení sociálně právní ochrany dětí na kaplickém městském úřadě zahájilo od 1. 1. 2014 provoz pracoviště terénní krizové pomoci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aplic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mace na z.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bměna týmu a ved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m partnerem a podporovatelem naší činnost pro nás byl od počátku vzniku KC Jihočeský kraj. Od r. 2015 se však  priority kraje a tudíž i směřová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inančních tok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dalo jiným směrem 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 stálou podporu jsme přišl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 Znamenalo to intenzivně se zamyslet nad dalším směřováním KC.  Abychom vyplnili velkou mezeru v rozpočtu, volili jsme cestu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evropských projekt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které nabízí možnost kreativní činnosti, možnost měnit věci koncepčně, avšak zpravidla neřeší přímou práci s klien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rmace n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ústa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SQ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še K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registrovaným poskytovatelem sociální služby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á pomoc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zároveň má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věření k výkonu SPOD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odborným interdisciplinárním pracovištěm zaměřeným na komplex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moc rodinám s dětmi ve zvlášť obtížných životních situacích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uje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psychologické a sociál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radenstv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a zaměřuje se na obnovu narušených rodinných vztahů a posilování rodičovských kompeten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tože vzniklá krizová situace zpravidla ovlivňuje celý rodinný systém, pracuje KC vždy, kdy je to vhodné, s celou rodinou. Právě pro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i s celým rodinným systémem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především díky know-how v oblasti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e s dětm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je KC organizací v regionu unikátn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ě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16360" y="191628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Informace pro rodi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ůžete se na nás obrátit například        v následujících případe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á komunikace a vztahy      v rodi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kolní problémy a problémy                   s vrstevní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chovné obtí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sychické a psychosomatické obtíže (sebepoškozování, poruchy příjmu potravy, suicidální pokus, úzkosti a strach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kce na traumatickou událost (ubližování, autonehoda, onemocnění nebo smrt někoho z blízký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é situace u dětí                  v pěstounské péči a adop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5" descr="1.png"/>
          <p:cNvPicPr/>
          <p:nvPr/>
        </p:nvPicPr>
        <p:blipFill>
          <a:blip r:embed="rId2"/>
          <a:stretch/>
        </p:blipFill>
        <p:spPr>
          <a:xfrm>
            <a:off x="250920" y="189000"/>
            <a:ext cx="1873080" cy="1847880"/>
          </a:xfrm>
          <a:prstGeom prst="rect">
            <a:avLst/>
          </a:prstGeom>
          <a:ln w="0">
            <a:noFill/>
          </a:ln>
        </p:spPr>
      </p:pic>
      <p:sp>
        <p:nvSpPr>
          <p:cNvPr id="66" name="Zástupný symbol pro obsah 2"/>
          <p:cNvSpPr/>
          <p:nvPr/>
        </p:nvSpPr>
        <p:spPr>
          <a:xfrm>
            <a:off x="324000" y="2133720"/>
            <a:ext cx="424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š se na nás obrátit v situacích, když potřebuješ s něčím pomo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 to být třeba kdy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y nepříjemné věci (např. rozvod, nehoda, někdo Ti umřel, šikana, někdo Ti ublížil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necítíš dobř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i nerozumíš s rodiči či vrstevníky nebo se spolu hádá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Ti někdo dělá něco, co se Ti nelíb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o něco, o čem se bojíš mluv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cítíš sám a/nebo je ti smut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jsi něco viděl nebo o něčem víš a trápí Tě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nevíš co d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áš str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polečně uděláme vše proto, aby Ti bylo lé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ospělý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ůžete se na nás obrátit například v těchto situací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ematická komunikace a vztahy v rodin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artnerská krize, rozchod, rozv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chovné problé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traumatickou událost (autonehoda, onemocnění nebo smrt někoho z vašich blízkýc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závažné onemocnění Vaše či Vašich blízkých či úmrtí blízkého člově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tanete-li se obětí trestného činu, například domácího násilí, nebo jste svědky týrání, zneužívání či zanedbávání dítě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émy či konflikty v zaměstn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4" descr="2.png"/>
          <p:cNvPicPr/>
          <p:nvPr/>
        </p:nvPicPr>
        <p:blipFill>
          <a:blip r:embed="rId2"/>
          <a:stretch/>
        </p:blipFill>
        <p:spPr>
          <a:xfrm>
            <a:off x="324000" y="260280"/>
            <a:ext cx="17492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1:19:06Z</dcterms:created>
  <dc:creator>Pája</dc:creator>
  <dc:description/>
  <dc:language>en-US</dc:language>
  <cp:lastModifiedBy>renata</cp:lastModifiedBy>
  <dcterms:modified xsi:type="dcterms:W3CDTF">2019-09-17T05:31:32Z</dcterms:modified>
  <cp:revision>31</cp:revision>
  <dc:subject/>
  <dc:title>RADOSTI A STRASTI</dc:title>
</cp:coreProperties>
</file>