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14C6-C9B0-49E0-95B9-2D21226B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185-22BA-4A3B-8FF5-DA2842D8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ED5-BD21-4367-BE61-81EA4648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2A9E-BC17-458B-9C8A-A60DA080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7B2-3222-4B2E-B43A-3B4F643D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EE6-0B16-4801-B566-176EA949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F49-3084-4880-9159-773D6193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8E0-A099-41A4-BD85-DC9D1C6F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130-5C70-479D-8537-A51EA819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462-15EA-437B-A254-F83FAC0D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C7A-AF7A-4347-BEB3-29EA7BD9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435-3BBE-4ACE-8820-A890EDAE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DA82-86AE-483F-88E0-29CAE22897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Krizové centrum pro děti a rodinu</a:t>
            </a:r>
            <a:br>
              <a:rPr sz="3200"/>
            </a:b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v Jihočeském kraji, z.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024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2" descr=""/>
          <p:cNvPicPr/>
          <p:nvPr/>
        </p:nvPicPr>
        <p:blipFill>
          <a:blip r:embed="rId2"/>
          <a:stretch/>
        </p:blipFill>
        <p:spPr>
          <a:xfrm>
            <a:off x="130320" y="1219320"/>
            <a:ext cx="888336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ručná charakteristika klientů za rok 201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684360" y="15573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kontakt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jednotlivých návštěv osob bez ohledu na délku konzultace): 1067/7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individuální, párová nebo rodinná konzultace – 831/6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půrně-terapeutické skupiny – 23/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4"/>
          <p:cNvSpPr/>
          <p:nvPr/>
        </p:nvSpPr>
        <p:spPr>
          <a:xfrm>
            <a:off x="684360" y="28954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klient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osob, které využili našich služeb): 462/3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y – 208/14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ži – 122/87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ívky – 71/68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hlapci – 61/6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případ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rodin): 244/2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last podpory rodiny – 142/15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rizová intervence – 66/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diny spadající do obou oblastí – 36/32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pracované zprávy (SPOD, opatrovnický soud, PČR):  131/1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ní kontak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3860280"/>
            <a:ext cx="374328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Doporuč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elefonát x “na blind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jednat x přepos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Uvítá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vní konzulta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aplánování spoluprá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4" descr="čekárna-stará.jpg"/>
          <p:cNvPicPr/>
          <p:nvPr/>
        </p:nvPicPr>
        <p:blipFill>
          <a:blip r:embed="rId2"/>
          <a:stretch/>
        </p:blipFill>
        <p:spPr>
          <a:xfrm>
            <a:off x="4751280" y="356400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82" name="Obrázek 6" descr="webovky-vila.jpg"/>
          <p:cNvPicPr/>
          <p:nvPr/>
        </p:nvPicPr>
        <p:blipFill>
          <a:blip r:embed="rId3"/>
          <a:stretch/>
        </p:blipFill>
        <p:spPr>
          <a:xfrm>
            <a:off x="6264360" y="126828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83" name="TextovéPole 7"/>
          <p:cNvSpPr/>
          <p:nvPr/>
        </p:nvSpPr>
        <p:spPr>
          <a:xfrm>
            <a:off x="4067280" y="19162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Jiráskovo nábřeží 10, České Budějo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Pája\Downloads\mapy.png"/>
          <p:cNvPicPr/>
          <p:nvPr/>
        </p:nvPicPr>
        <p:blipFill>
          <a:blip r:embed="rId4"/>
          <a:srcRect l="10628" t="0" r="43700" b="15881"/>
          <a:stretch/>
        </p:blipFill>
        <p:spPr>
          <a:xfrm>
            <a:off x="0" y="0"/>
            <a:ext cx="4067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estr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560" y="162864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roblemat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din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chov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voj/poru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CAN, OT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sp>
        <p:nvSpPr>
          <p:cNvPr id="88" name="Zástupný symbol pro obsah 2"/>
          <p:cNvSpPr/>
          <p:nvPr/>
        </p:nvSpPr>
        <p:spPr>
          <a:xfrm>
            <a:off x="4273560" y="1639800"/>
            <a:ext cx="2602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ruh konzul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elefon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Individ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ár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Rodič-d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Skup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pro obsah 2"/>
          <p:cNvSpPr/>
          <p:nvPr/>
        </p:nvSpPr>
        <p:spPr>
          <a:xfrm>
            <a:off x="2328840" y="1628640"/>
            <a:ext cx="26035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yp inter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iagnos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orad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era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obsah 2"/>
          <p:cNvSpPr/>
          <p:nvPr/>
        </p:nvSpPr>
        <p:spPr>
          <a:xfrm>
            <a:off x="6300720" y="1628640"/>
            <a:ext cx="2602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ástroj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linické metod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ozoro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Rozhov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rojek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Kresb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Nedokon-čené vě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ískoviště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Dix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Testové metod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Hra na poš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Škála úzkos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a dalš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ovéPole 7"/>
          <p:cNvSpPr/>
          <p:nvPr/>
        </p:nvSpPr>
        <p:spPr>
          <a:xfrm>
            <a:off x="539640" y="6093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+ zařazení do jednotlivých projek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půrně-terapeutické skup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5" descr="M-1024x1024.png"/>
          <p:cNvPicPr/>
          <p:nvPr/>
        </p:nvPicPr>
        <p:blipFill>
          <a:blip r:embed="rId2"/>
          <a:stretch/>
        </p:blipFill>
        <p:spPr>
          <a:xfrm>
            <a:off x="4932360" y="155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Obrázek 6" descr="kindergarten-504672_1280-1024x682.jpg"/>
          <p:cNvPicPr/>
          <p:nvPr/>
        </p:nvPicPr>
        <p:blipFill>
          <a:blip r:embed="rId3"/>
          <a:stretch/>
        </p:blipFill>
        <p:spPr>
          <a:xfrm>
            <a:off x="4716360" y="4149720"/>
            <a:ext cx="335124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Obrázek 7" descr="kc_cinnosti_1-1024x683.jpg"/>
          <p:cNvPicPr/>
          <p:nvPr/>
        </p:nvPicPr>
        <p:blipFill>
          <a:blip r:embed="rId4"/>
          <a:stretch/>
        </p:blipFill>
        <p:spPr>
          <a:xfrm>
            <a:off x="971640" y="1557360"/>
            <a:ext cx="3330360" cy="2220840"/>
          </a:xfrm>
          <a:prstGeom prst="rect">
            <a:avLst/>
          </a:prstGeom>
          <a:ln w="0">
            <a:noFill/>
          </a:ln>
        </p:spPr>
      </p:pic>
      <p:pic>
        <p:nvPicPr>
          <p:cNvPr id="97" name="Obrázek 8" descr="children-310554_1280-e1431934921548.png"/>
          <p:cNvPicPr/>
          <p:nvPr/>
        </p:nvPicPr>
        <p:blipFill>
          <a:blip r:embed="rId5"/>
          <a:stretch/>
        </p:blipFill>
        <p:spPr>
          <a:xfrm>
            <a:off x="1476360" y="4437000"/>
            <a:ext cx="2381400" cy="1771560"/>
          </a:xfrm>
          <a:prstGeom prst="rect">
            <a:avLst/>
          </a:prstGeom>
          <a:ln w="0">
            <a:noFill/>
          </a:ln>
        </p:spPr>
      </p:pic>
      <p:pic>
        <p:nvPicPr>
          <p:cNvPr id="98" name="Obrázek 9" descr="F-679x1024.png"/>
          <p:cNvPicPr/>
          <p:nvPr/>
        </p:nvPicPr>
        <p:blipFill>
          <a:blip r:embed="rId6"/>
          <a:stretch/>
        </p:blipFill>
        <p:spPr>
          <a:xfrm>
            <a:off x="1042920" y="2565360"/>
            <a:ext cx="765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peciální pro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4" descr="footprints-48031_640-e1442918030894.png"/>
          <p:cNvPicPr/>
          <p:nvPr/>
        </p:nvPicPr>
        <p:blipFill>
          <a:blip r:embed="rId2"/>
          <a:stretch/>
        </p:blipFill>
        <p:spPr>
          <a:xfrm>
            <a:off x="250920" y="404640"/>
            <a:ext cx="216036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Obrázek 5" descr="divorce-156444_1280-1024x731.png"/>
          <p:cNvPicPr/>
          <p:nvPr/>
        </p:nvPicPr>
        <p:blipFill>
          <a:blip r:embed="rId3"/>
          <a:stretch/>
        </p:blipFill>
        <p:spPr>
          <a:xfrm>
            <a:off x="3633840" y="2924280"/>
            <a:ext cx="55101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Diagnosticko-terapeutické pískovišt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5" name="Obrázek 4" descr="písek-2-1024x768.jpg"/>
          <p:cNvPicPr/>
          <p:nvPr/>
        </p:nvPicPr>
        <p:blipFill>
          <a:blip r:embed="rId2"/>
          <a:stretch/>
        </p:blipFill>
        <p:spPr>
          <a:xfrm>
            <a:off x="1187280" y="1413000"/>
            <a:ext cx="66564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tatní čin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4005360"/>
            <a:ext cx="4895640" cy="21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olupráce s odborní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náš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áž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9" name="Obrázek 4" descr="kc_cinnosti_2-683x1024.jpg"/>
          <p:cNvPicPr/>
          <p:nvPr/>
        </p:nvPicPr>
        <p:blipFill>
          <a:blip r:embed="rId2"/>
          <a:stretch/>
        </p:blipFill>
        <p:spPr>
          <a:xfrm>
            <a:off x="5700600" y="1695600"/>
            <a:ext cx="3443400" cy="516240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5" descr="3.png"/>
          <p:cNvPicPr/>
          <p:nvPr/>
        </p:nvPicPr>
        <p:blipFill>
          <a:blip r:embed="rId3"/>
          <a:stretch/>
        </p:blipFill>
        <p:spPr>
          <a:xfrm>
            <a:off x="179280" y="260280"/>
            <a:ext cx="2229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je to krizové cen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kytuj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rizovou interven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lefonická, terénní, ambulantn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vaznost na tel. KI (např. Linka důvě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ecializace na cílové skup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dané aktivity – skupiny, rozvod bez újmy, práce s agresorem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izové centrum pro děti a rodinu vzniká jak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ojekt spolupráce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ajského úřadu Jč. kraje a Zdravotně sociální fakulty Jihočeské univerzity. V tomto období ZSF JU centrum realizovala a zastřešoval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izové centrum se od svého založe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imárně orientovalo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na pomoc (detekce, diagnostika, péče, prevence) dětem trpícím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yndromem  CAN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vycházelo z dobré praxe DKC Praha). Dále pomáhalo dětem, které se ocitly v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závažné, krizové situaci v rodině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ztráta či rozpad rodiny, vážné onemocnění nebo úmrtí  v rodině, sociálně patologické jevy v rodině, např. alkoholizmus) nebo lidem, kteří zažili traum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ětšina z ČB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ale také z kraje i odjinud,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íce žen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střední dospělost, dětí nejvíce ZŠ a SŠ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lužb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- KI, diagnostika, poradenství, terapie, Preventík, PS, stáže, přednášky, osvě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polupráce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s OSPOD, policie, soud, školy..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.1.2004 – Krizové centrum se stává samostatným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občanským sdružením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stěhování do prostor       v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 Nerudově ulici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diagnosticko-terapeutická místnost s jednocestným zrcadlem,  prevence sekundární viktimizace u vyšetřování CA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5.3.2004 – uděle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ověření k sociálně právní ochraně dět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d počátku mezi řešenými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oblematikami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řevažují rodinné problémy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konflikty, rozvod), dále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ýchovné a školní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oblémy, psychické a behaviorál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oruch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dětí, zbylých téměř 10 %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7- dle zákona 108/2006 Sb., o sociálních službách uskutečněna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registrace služeb Krizové pomoci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a Socializačně- aktivizačních služeb pro rodinu s dětmi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stopad 2007 – rekonstrukce prostor v Nerudově ulici č. 2685/53 a dočasné přestěhování do Staroměstské ulice č. 18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ersonální změn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Červen 2008- dokončení rekonstrukce- návrat do Nerudovy ul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bnovení služby „Podporované setkávání dítěte s odcizeným rodičem“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ozšíření služeb 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rizovou pomoc pro dospěl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ok 2008 – personální změny – Vedoucí krizového centra- PhDr. Libuše Vlášková předala koncem roku funkci PhDr. Ivě Kundrátov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stopad 2008 – únor 2009 – značné personální změny, výběr a tvorba nového pracovního týmu a jeho stabiliza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eden 2009 – zrušení registrace služby: Socializačně-aktivizačních služeb pro rodinu s dětm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únor 2009 navýšení kapacity Krizového cent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ořízení diagnosticko-terapeutickéh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ískoviště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udělení statusu "Organizace uznaná MPSV na léta 2010-2012 pro činnost v oblasti prorodinných aktivit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ed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kupina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pro ot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břez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kupina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pro žen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těhování na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Jiráskovo nábřež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kupina pro adolescenty a skupina pro dět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dub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I také terén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V dubnu jsme na Krajském úřadě Jihočeského kraje rozšířili registraci sociální služby Krizová pomoc o terénní formu s působností pro celý Jihočeský kraj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Na podzim 2013 probíhala také intenzivní jednání s městem Kaplice o poskytování terénní krizové pomoci přímo v jejich městě. Díky výborné spolupráci, vstřícnému přístupu a finanční podpoře vedení města Kaplice a oddělení sociálně právní ochrany dětí na kaplickém městském úřadě zahájilo od 1. 1. 2014 provoz pracoviště terénní krizové pomoci v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aplic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ansfomace na z.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bměna týmu a ved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m partnerem a podporovatelem naší činnost pro nás byl od počátku vzniku KC Jihočeský kraj. Od r. 2015 se však  priority kraje a tudíž i směřová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inančních toků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dalo jiným směrem 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 stálou podporu jsme přišli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. Znamenalo to intenzivně se zamyslet nad dalším směřováním KC.  Abychom vyplnili velkou mezeru v rozpočtu, volili jsme cestu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evropských projektů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které nabízí možnost kreativní činnosti, možnost měnit věci koncepčně, avšak zpravidla neřeší přímou práci s klien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ansformace n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ústa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SQ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še K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C je registrovaným poskytovatelem sociální služby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krizová pomoc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 zároveň má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věření k výkonu SPOD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C je odborným interdisciplinárním pracovištěm zaměřeným na komplexní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moc rodinám s dětmi ve zvlášť obtížných životních situacích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uje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krizovou intervenc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psychologické a sociální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radenstv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a zaměřuje se na obnovu narušených rodinných vztahů a posilování rodičovských kompeten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tože vzniklá krizová situace zpravidla ovlivňuje celý rodinný systém, pracuje KC vždy, kdy je to vhodné, s celou rodinou. Právě pro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ráci s celým rodinným systémem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 především díky know-how v oblasti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ráce s dětm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je KC organizací v regionu unikátn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dě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16360" y="191628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Informace pro rodi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ůžete se na nás obrátit například        v následujících případe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ematická komunikace a vztahy      v rodi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kolní problémy a problémy                   s vrstevní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chovné obtí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sychické a psychosomatické obtíže (sebepoškozování, poruchy příjmu potravy, suicidální pokus, úzkosti a strach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kce na traumatickou událost (ubližování, autonehoda, onemocnění nebo smrt někoho z blízký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ematické situace u dětí                  v pěstounské péči a adop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5" descr="1.png"/>
          <p:cNvPicPr/>
          <p:nvPr/>
        </p:nvPicPr>
        <p:blipFill>
          <a:blip r:embed="rId2"/>
          <a:stretch/>
        </p:blipFill>
        <p:spPr>
          <a:xfrm>
            <a:off x="250920" y="189000"/>
            <a:ext cx="1873080" cy="1847880"/>
          </a:xfrm>
          <a:prstGeom prst="rect">
            <a:avLst/>
          </a:prstGeom>
          <a:ln w="0">
            <a:noFill/>
          </a:ln>
        </p:spPr>
      </p:pic>
      <p:sp>
        <p:nvSpPr>
          <p:cNvPr id="66" name="Zástupný symbol pro obsah 2"/>
          <p:cNvSpPr/>
          <p:nvPr/>
        </p:nvSpPr>
        <p:spPr>
          <a:xfrm>
            <a:off x="324000" y="2133720"/>
            <a:ext cx="4248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ůžeš se na nás obrátit v situacích, když potřebuješ s něčím pomo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ůže to být třeba kdy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Ti staly nepříjemné věci (např. rozvod, nehoda, někdo Ti umřel, šikana, někdo Ti ublížil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necítíš dobř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i nerozumíš s rodiči či vrstevníky nebo se spolu hádá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Ti někdo dělá něco, co se Ti nelíb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Ti stalo něco, o čem se bojíš mluv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cítíš sám a/nebo je ti smut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jsi něco viděl nebo o něčem víš a trápí Tě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nevíš co d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áš str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polečně uděláme vše proto, aby Ti bylo lé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dospělý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ůžete se na nás obrátit například v těchto situacíc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blematická komunikace a vztahy v rodin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artnerská krize, rozchod, rozv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chovné problé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akce na traumatickou událost (autonehoda, onemocnění nebo smrt někoho z vašich blízkýc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akce na závažné onemocnění Vaše či Vašich blízkých či úmrtí blízkého člově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tanete-li se obětí trestného činu, například domácího násilí, nebo jste svědky týrání, zneužívání či zanedbávání dítě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blémy či konflikty v zaměstná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4" descr="2.png"/>
          <p:cNvPicPr/>
          <p:nvPr/>
        </p:nvPicPr>
        <p:blipFill>
          <a:blip r:embed="rId2"/>
          <a:stretch/>
        </p:blipFill>
        <p:spPr>
          <a:xfrm>
            <a:off x="324000" y="260280"/>
            <a:ext cx="17492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1:19:06Z</dcterms:created>
  <dc:creator>Pája</dc:creator>
  <dc:description/>
  <dc:language>en-US</dc:language>
  <cp:lastModifiedBy>renata</cp:lastModifiedBy>
  <dcterms:modified xsi:type="dcterms:W3CDTF">2019-09-17T05:31:32Z</dcterms:modified>
  <cp:revision>31</cp:revision>
  <dc:subject/>
  <dc:title>RADOSTI A STRASTI</dc:title>
</cp:coreProperties>
</file>